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9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E96-9BB6-482E-8B4C-A0A772A4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5AF-23CC-43B1-9083-15FACF8F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549-B53D-435A-9CED-9BC4D3F0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CF3-3CAC-4335-BE5E-9E107732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F42E-0AEA-49C6-A276-68028773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091B-1E5F-442D-82D2-A0E79B99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45A1-CD7A-4AA3-8752-FFBBA76B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B1EE-3797-4298-AFCC-83C4CD6F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6C80-3FF3-45AE-926D-D1A654D0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9FAA-8016-443F-AB9D-A9752B7D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AABC-51C0-4EFD-8FE3-E9AB3449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F23-92CD-4FB0-BC95-D1D366CB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D8DC-E96A-4718-B82E-CFC76317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01F5-C312-4A40-A020-B46D4FAA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FE57-3A55-4A77-A64D-824F0A2E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DFB7-B124-4F9E-B9C0-4ABD8036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CFB1-9594-4992-99F4-38DF95AA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D3F-8FF5-4224-B1AF-9E97BFA9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957-DCA2-41B5-8004-7D501A31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416-A21F-404E-AA2C-787F20D2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5D2-C7B4-47CB-AEF1-1CE84EC7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3D0-E82B-4E19-9A37-DB807F22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C72-D1C5-4641-8947-4545B914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0C0-92FD-41C7-9BE3-66BAC0DF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927F-3E4A-4562-8DE7-5AD5BFF54B5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361E-876E-477E-8D67-A34082492313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america.edu.co/index.php?id=67/guiametogologica" TargetMode="External"/><Relationship Id="rId2" Type="http://schemas.openxmlformats.org/officeDocument/2006/relationships/hyperlink" Target="http://orton.catie.ac.cr/cgi-hin/wxis.exe/?IsisScript=AGRISUM.xis&amp;method=post&amp;formato=2&amp;cantidad=1&amp;expresion=mfn=000235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6760" y="1285920"/>
            <a:ext cx="8572680" cy="367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Tahoma"/>
              </a:rPr>
              <a:t>UNIVERSIDAD DE AMERICA</a:t>
            </a:r>
            <a:br>
              <a:rPr sz="4400"/>
            </a:b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INGENIERÍA QUIMICA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nero de 2018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32000" y="5013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45472"/>
                </a:solidFill>
                <a:latin typeface="Tahoma"/>
              </a:rPr>
              <a:t>SEMINARIO DE PROYECTO DE GRAD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251320" y="6237360"/>
            <a:ext cx="39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45472"/>
                </a:solidFill>
                <a:latin typeface="Tahoma"/>
              </a:rPr>
              <a:t>COMITÉ DE PROYECTO DE GRAD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45472"/>
                </a:solidFill>
                <a:latin typeface="Tahoma"/>
              </a:rPr>
              <a:t>IQ LEONARDO DE J. HERRERA G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9" name="Imagen 1" descr=""/>
          <p:cNvPicPr/>
          <p:nvPr/>
        </p:nvPicPr>
        <p:blipFill>
          <a:blip r:embed="rId1"/>
          <a:stretch/>
        </p:blipFill>
        <p:spPr>
          <a:xfrm>
            <a:off x="4214880" y="357120"/>
            <a:ext cx="7333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755640" y="333360"/>
            <a:ext cx="792972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0066"/>
                </a:solidFill>
                <a:latin typeface="Arial"/>
              </a:rPr>
              <a:t>¿CÓMO RECONOCER QUE ES UN TEMA PERTINENTE DE INVESTIGACION EN IQ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EXPERIMENTAL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DISEÑO DE INGENIERÍ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PROCESOS QUIMIC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BIOTECNOLOGIA, BIOQUIMIC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DESARROLLOS DE SOFTWAR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9" name="Picture 4" descr="HM00361_"/>
          <p:cNvPicPr/>
          <p:nvPr/>
        </p:nvPicPr>
        <p:blipFill>
          <a:blip r:embed="rId1"/>
          <a:stretch/>
        </p:blipFill>
        <p:spPr>
          <a:xfrm>
            <a:off x="1905120" y="4343400"/>
            <a:ext cx="2057400" cy="1857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WB01750_"/>
          <p:cNvPicPr/>
          <p:nvPr/>
        </p:nvPicPr>
        <p:blipFill>
          <a:blip r:embed="rId2"/>
          <a:stretch/>
        </p:blipFill>
        <p:spPr>
          <a:xfrm>
            <a:off x="5562720" y="2286000"/>
            <a:ext cx="2971800" cy="11890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6"/>
          <p:cNvSpPr/>
          <p:nvPr/>
        </p:nvSpPr>
        <p:spPr>
          <a:xfrm>
            <a:off x="4284720" y="4005360"/>
            <a:ext cx="4535280" cy="25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CONTROL DE PROCES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NORMAS DE CALIDA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MEDIO AMBIENT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IMPACTO INDUSTRI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IMPACTOS  SOCIAL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2" name="Imagen 1" descr=""/>
          <p:cNvPicPr/>
          <p:nvPr/>
        </p:nvPicPr>
        <p:blipFill>
          <a:blip r:embed="rId3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5973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0066"/>
                </a:solidFill>
                <a:latin typeface="Tahoma"/>
              </a:rPr>
              <a:t>FUENTE DE TEMAS DE PROYECT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42960" y="149976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Problemas del entorno industrial e institucional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Mejoramiento de situaciones actuales en la industria o instituciones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Continuación de investigaciones anteriores.(trabajos de grado)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Consultas a profesores y profesionales de la industria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Consultas con el departamento de Investigación</a:t>
            </a:r>
            <a:r>
              <a:rPr b="1" lang="es-MX" sz="24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5" name="Imagen 1" descr=""/>
          <p:cNvPicPr/>
          <p:nvPr/>
        </p:nvPicPr>
        <p:blipFill>
          <a:blip r:embed="rId6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39120" cy="10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EL PROYECTO DE GRADO</a:t>
            </a:r>
            <a:br>
              <a:rPr sz="3600"/>
            </a:b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ES UN PROCES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036960" y="2978280"/>
            <a:ext cx="2895480" cy="22096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ROYEC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6019920" y="3886200"/>
            <a:ext cx="76176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Line 5"/>
          <p:cNvSpPr/>
          <p:nvPr/>
        </p:nvSpPr>
        <p:spPr>
          <a:xfrm>
            <a:off x="2133720" y="3429000"/>
            <a:ext cx="99036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2133720" y="4038480"/>
            <a:ext cx="91440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3429000" y="2057400"/>
            <a:ext cx="0" cy="91440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Line 8"/>
          <p:cNvSpPr/>
          <p:nvPr/>
        </p:nvSpPr>
        <p:spPr>
          <a:xfrm>
            <a:off x="4572000" y="2133720"/>
            <a:ext cx="0" cy="83808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Line 9"/>
          <p:cNvSpPr/>
          <p:nvPr/>
        </p:nvSpPr>
        <p:spPr>
          <a:xfrm>
            <a:off x="5562720" y="2057400"/>
            <a:ext cx="0" cy="91440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2209680" y="4724280"/>
            <a:ext cx="83844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Line 11"/>
          <p:cNvSpPr/>
          <p:nvPr/>
        </p:nvSpPr>
        <p:spPr>
          <a:xfrm flipV="1">
            <a:off x="3809880" y="5181480"/>
            <a:ext cx="0" cy="60984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Line 12"/>
          <p:cNvSpPr/>
          <p:nvPr/>
        </p:nvSpPr>
        <p:spPr>
          <a:xfrm flipV="1">
            <a:off x="5257800" y="5181480"/>
            <a:ext cx="0" cy="60984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6918840" y="3429000"/>
            <a:ext cx="192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TITULO D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INGENIER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QUÍMIC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86360" y="18288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Proyectista(s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2971800" y="2057400"/>
            <a:ext cx="457200" cy="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3621960" y="149868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Verdana"/>
              </a:rPr>
              <a:t>COMITÉ D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Verdana"/>
              </a:rPr>
              <a:t>PROYECT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5562720" y="2057400"/>
            <a:ext cx="761760" cy="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64771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6590520" y="1860480"/>
            <a:ext cx="20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Orientad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Jurado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Evaluador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2130840" y="578628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Direct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Del proyec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4669560" y="579132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Codirect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11040" y="3429000"/>
            <a:ext cx="192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Empresa o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Institució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Spons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7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just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Traer para la primera semana de clase de seminario varios temas en blanco y negro para discusión en clase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270720" indent="-270720" algn="just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Lectura de los lineamientos de proyectos de Grado en I.Q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2707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27072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CPG IQ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9" name="Imagen 1" descr=""/>
          <p:cNvPicPr/>
          <p:nvPr/>
        </p:nvPicPr>
        <p:blipFill>
          <a:blip r:embed="rId3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230" name="5 Rectángulo"/>
          <p:cNvSpPr/>
          <p:nvPr/>
        </p:nvSpPr>
        <p:spPr>
          <a:xfrm>
            <a:off x="3491640" y="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545472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42960" y="856800"/>
            <a:ext cx="810432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Ramirez, A. (2009). </a:t>
            </a:r>
            <a:r>
              <a:rPr b="0" i="1" lang="es-MX" sz="1600" spc="-1" strike="noStrike">
                <a:solidFill>
                  <a:srgbClr val="545472"/>
                </a:solidFill>
                <a:latin typeface="Tahoma"/>
              </a:rPr>
              <a:t>METODOLOGIA DE LA INVESTIGACION</a:t>
            </a: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. Editorial Universidad javeriana. Bogota, Colombia.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Saravia, M. (2010). </a:t>
            </a:r>
            <a:r>
              <a:rPr b="0" i="1" lang="es-MX" sz="1600" spc="-1" strike="noStrike">
                <a:solidFill>
                  <a:srgbClr val="545472"/>
                </a:solidFill>
                <a:latin typeface="Tahoma"/>
              </a:rPr>
              <a:t>METODOLOGIA DE LA INVESTIGACIONPROBLEMAS DE INGENIERIA</a:t>
            </a: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. Bueno Aires. Argentina. Editoriales Manantial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545472"/>
                </a:solidFill>
                <a:latin typeface="Tahoma"/>
              </a:rPr>
              <a:t>CIBERGRAFI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844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 algn="just"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545472"/>
                </a:solidFill>
                <a:latin typeface="Tahoma"/>
              </a:rPr>
              <a:t>GUIA METODOLOGICA PARA ELABORACION DE PROYECTOS DE GRADO.</a:t>
            </a:r>
            <a:r>
              <a:rPr b="1" lang="es-ES" sz="1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545472"/>
                </a:solidFill>
                <a:latin typeface="Tahoma"/>
              </a:rPr>
              <a:t>Facultad de Ingenierías Universidad de América. (2010). Recuperado el 22 Abril de 2014, de  </a:t>
            </a:r>
            <a:r>
              <a:rPr b="0" lang="es-ES" sz="1600" spc="-1" strike="noStrike" u="sng">
                <a:solidFill>
                  <a:srgbClr val="9595ff"/>
                </a:solidFill>
                <a:uFillTx/>
                <a:latin typeface="Tahoma"/>
                <a:hlinkClick r:id="rId1"/>
              </a:rPr>
              <a:t>http://www.uamerica.edu.co/index.php?id=67/guiametogologica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545472"/>
                </a:solidFill>
                <a:latin typeface="Tahoma"/>
              </a:rPr>
              <a:t>LOS PROBLEMAS EN INGENIERIA. </a:t>
            </a: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Hernandez, R. (2015) Recuperado en 22 de mayo de 2016, de  </a:t>
            </a:r>
            <a:r>
              <a:rPr b="0" lang="es-ES" sz="1600" spc="-1" strike="noStrike" u="sng">
                <a:solidFill>
                  <a:srgbClr val="9595ff"/>
                </a:solidFill>
                <a:uFillTx/>
                <a:latin typeface="Tahoma"/>
                <a:hlinkClick r:id="rId2"/>
              </a:rPr>
              <a:t>http://</a:t>
            </a:r>
            <a:r>
              <a:rPr b="0" i="1" lang="es-CO" sz="1600" spc="-1" strike="noStrike">
                <a:solidFill>
                  <a:srgbClr val="545472"/>
                </a:solidFill>
                <a:latin typeface="Tahoma"/>
              </a:rPr>
              <a:t>www.ie.itcr.ac.cr/.../El%20</a:t>
            </a:r>
            <a:r>
              <a:rPr b="1" i="1" lang="es-CO" sz="1600" spc="-1" strike="noStrike">
                <a:solidFill>
                  <a:srgbClr val="545472"/>
                </a:solidFill>
                <a:latin typeface="Tahoma"/>
              </a:rPr>
              <a:t>Problema</a:t>
            </a:r>
            <a:r>
              <a:rPr b="0" i="1" lang="es-CO" sz="1600" spc="-1" strike="noStrike">
                <a:solidFill>
                  <a:srgbClr val="545472"/>
                </a:solidFill>
                <a:latin typeface="Tahoma"/>
              </a:rPr>
              <a:t>%20en%20</a:t>
            </a:r>
            <a:r>
              <a:rPr b="1" i="1" lang="es-CO" sz="1600" spc="-1" strike="noStrike">
                <a:solidFill>
                  <a:srgbClr val="545472"/>
                </a:solidFill>
                <a:latin typeface="Tahoma"/>
              </a:rPr>
              <a:t>ingeniería</a:t>
            </a:r>
            <a:r>
              <a:rPr b="0" i="1" lang="es-CO" sz="1600" spc="-1" strike="noStrike">
                <a:solidFill>
                  <a:srgbClr val="545472"/>
                </a:solidFill>
                <a:latin typeface="Tahoma"/>
              </a:rPr>
              <a:t>%20No.3.ppt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 algn="just"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 algn="just"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545472"/>
                </a:solidFill>
                <a:latin typeface="Tahoma"/>
              </a:rPr>
              <a:t>IDENTIFICACION DE PROBLEMAS EN LA INDUSTRIA.</a:t>
            </a:r>
            <a:r>
              <a:rPr b="1" lang="es-ES" sz="1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545472"/>
                </a:solidFill>
                <a:latin typeface="Tahoma"/>
              </a:rPr>
              <a:t>Puis, D. (2015). Instituto Tecnológico y de Estudios Superiores de Monterrey. Recuperado el 12 Mayo de 2011, de  </a:t>
            </a:r>
            <a:r>
              <a:rPr b="0" lang="es-ES" sz="1600" spc="-1" strike="noStrike" u="sng">
                <a:solidFill>
                  <a:srgbClr val="545472"/>
                </a:solidFill>
                <a:uFillTx/>
                <a:latin typeface="Tahoma"/>
              </a:rPr>
              <a:t>http://www.aie.cl/files/file/comites/ca/articulos/diciembre-05.pdf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6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32" name="Imagen 1" descr=""/>
          <p:cNvPicPr/>
          <p:nvPr/>
        </p:nvPicPr>
        <p:blipFill>
          <a:blip r:embed="rId4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233" name="5 Rectángulo"/>
          <p:cNvSpPr/>
          <p:nvPr/>
        </p:nvSpPr>
        <p:spPr>
          <a:xfrm>
            <a:off x="2737440" y="214200"/>
            <a:ext cx="39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545472"/>
                </a:solidFill>
                <a:latin typeface="Times New Roman"/>
              </a:rPr>
              <a:t>BIBLIOGRAFIA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5327640" cy="15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660066"/>
                </a:solidFill>
                <a:latin typeface="Tahoma"/>
              </a:rPr>
              <a:t>FIN DE LA PRESENTACIÓN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5" name="Picture 3" descr="J0186164"/>
          <p:cNvPicPr/>
          <p:nvPr/>
        </p:nvPicPr>
        <p:blipFill>
          <a:blip r:embed="rId1"/>
          <a:stretch/>
        </p:blipFill>
        <p:spPr>
          <a:xfrm>
            <a:off x="228600" y="1955880"/>
            <a:ext cx="220968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4"/>
          <p:cNvSpPr/>
          <p:nvPr/>
        </p:nvSpPr>
        <p:spPr>
          <a:xfrm>
            <a:off x="3348000" y="1994040"/>
            <a:ext cx="4419720" cy="1600200"/>
          </a:xfrm>
          <a:prstGeom prst="wedgeRoundRectCallout">
            <a:avLst>
              <a:gd name="adj1" fmla="val -66162"/>
              <a:gd name="adj2" fmla="val 39087"/>
              <a:gd name="adj3" fmla="val 16667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Arial"/>
              </a:rPr>
              <a:t>¡ Muchas GRACIA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Arial"/>
              </a:rPr>
              <a:t>por la aten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Arial"/>
              </a:rPr>
              <a:t>y por su tiempo !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Rectángulo 1"/>
          <p:cNvSpPr/>
          <p:nvPr/>
        </p:nvSpPr>
        <p:spPr>
          <a:xfrm>
            <a:off x="3635280" y="386064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517c1"/>
                </a:solidFill>
                <a:latin typeface="Times New Roman"/>
              </a:rPr>
              <a:t>comiteproyectosiq@uamerica.edu.c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Rectángulo 2"/>
          <p:cNvSpPr/>
          <p:nvPr/>
        </p:nvSpPr>
        <p:spPr>
          <a:xfrm>
            <a:off x="2438280" y="4406760"/>
            <a:ext cx="64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517c1"/>
                </a:solidFill>
                <a:latin typeface="Times New Roman"/>
              </a:rPr>
              <a:t>https://trabajodegradouamerica.wikispaces.com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1714680"/>
            <a:ext cx="7696080" cy="387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1. PRESENTACION DEL SYLLABVS DE LA ASIGNATURA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2. ELEMENTOS A TENER EN CUENTA PARA EL DESARROLLO DEL PROYECTO DE GRADO (ING. LEONARDO HERRERA)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3. PRESENTACION DE LOS INTEGRANTES DEL COMITE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4. CRONOGRAMA DE ACTIVIDADES DEL SEMINARIO (ING. ELIZABETH TORRES)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5. PRESENTACION DE LOS TEMAS POR PARTE DE LOS ESTUDIANTES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1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285920" y="142920"/>
            <a:ext cx="71215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OBJETIVOS DE LA REUN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85880" y="2571840"/>
            <a:ext cx="7696080" cy="4084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1.El trabajo de grado es una aplicación teórico -practica (investigación) de los conocimientos , destrezas  y competencias adquiridas durante el proceso de formación profesional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2. Que sirve para el análisis de casos de investigación, solución de problemas de la industria y aprovechamiento de oportunidades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3. Es una oportunidad para que los estudiantes evalúen los conocimientos adquiridos y los pongas en práctica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4. Es una de las modalidades para optar por el título profesional de los diferentes programas ofrecidos por la Universidad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5. Orientado por el comité de proyectos de grado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6. Desarrollado bajo las normas de la Institición y de las normas ICONTEC  vigentes.</a:t>
            </a:r>
            <a:br>
              <a:rPr sz="1800"/>
            </a:b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4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1285920" y="142920"/>
            <a:ext cx="71215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DEFINICION DE PROYECTO DE GRAD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85520" y="2500200"/>
            <a:ext cx="7767720" cy="2857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1. Órgano colegiado constituido por docentes y profesionales idóneos y con la experticia para orientar y dirigir las diferentes etapas del proceso investigativo del proyecto de grado.</a:t>
            </a: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2. Que propende por el cumplimiento y desarrollo de los objetivos de las asignaturas de seminario de proyecto de grado y trabajo de Grado.</a:t>
            </a: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7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1285920" y="142920"/>
            <a:ext cx="71215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DEFINICION DE COMITÉ DE PROYECTOS DE GRAD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5280" y="836640"/>
            <a:ext cx="65498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ETAPAS DEL PROYECTO DE GRAD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28800" y="2322360"/>
            <a:ext cx="735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54547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Times New Roman"/>
              </a:rPr>
              <a:t>PLANEACION: SEMINARIO DE PROYECTO DE GRADO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Times New Roman"/>
              </a:rPr>
              <a:t>2.   EJECUCION: TRABAJO DE GRAD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Times New Roman"/>
              </a:rPr>
              <a:t>3.  ENTREGRA: SUSTENTACION, CORRECCIONES Y GRADUACION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1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L PROYECTO DE GRADO COMO UN PROCESO TECNICO-ADMINISTRATIV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57200" y="1981080"/>
            <a:ext cx="8153280" cy="4496040"/>
          </a:xfrm>
          <a:prstGeom prst="rect">
            <a:avLst/>
          </a:prstGeom>
          <a:solidFill>
            <a:srgbClr val="00cc0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429000" y="21337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352680" y="2209680"/>
            <a:ext cx="4800600" cy="457200"/>
          </a:xfrm>
          <a:prstGeom prst="rect">
            <a:avLst/>
          </a:prstGeom>
          <a:solidFill>
            <a:srgbClr val="5454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7ccd9"/>
                </a:solidFill>
                <a:latin typeface="Verdana"/>
              </a:rPr>
              <a:t>CONCEPCIÓN DE LA IDE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352680" y="2971800"/>
            <a:ext cx="4800600" cy="457200"/>
          </a:xfrm>
          <a:prstGeom prst="rect">
            <a:avLst/>
          </a:prstGeom>
          <a:solidFill>
            <a:srgbClr val="5454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7ccd9"/>
                </a:solidFill>
                <a:latin typeface="Verdana"/>
              </a:rPr>
              <a:t>DEFINICIÓN DEL TEM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352680" y="3886200"/>
            <a:ext cx="4800600" cy="457200"/>
          </a:xfrm>
          <a:prstGeom prst="rect">
            <a:avLst/>
          </a:prstGeom>
          <a:solidFill>
            <a:srgbClr val="5454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7ccd9"/>
                </a:solidFill>
                <a:latin typeface="Verdana"/>
              </a:rPr>
              <a:t>ESTRUCTURAR PROPUEST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3352680" y="4724280"/>
            <a:ext cx="4800600" cy="457200"/>
          </a:xfrm>
          <a:prstGeom prst="rect">
            <a:avLst/>
          </a:prstGeom>
          <a:solidFill>
            <a:srgbClr val="5454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7ccd9"/>
                </a:solidFill>
                <a:latin typeface="Verdana"/>
              </a:rPr>
              <a:t>ELABORAR ANTEPROYEC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3352680" y="5638680"/>
            <a:ext cx="4800600" cy="457200"/>
          </a:xfrm>
          <a:prstGeom prst="rect">
            <a:avLst/>
          </a:prstGeom>
          <a:solidFill>
            <a:srgbClr val="5454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7ccd9"/>
                </a:solidFill>
                <a:latin typeface="Verdana"/>
              </a:rPr>
              <a:t>EJECUCIÓN DEL PROYEC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5943600" y="2666880"/>
            <a:ext cx="0" cy="30492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5943600" y="4343400"/>
            <a:ext cx="0" cy="38088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5943600" y="518148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5943600" y="6095880"/>
            <a:ext cx="0" cy="53352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Line 15"/>
          <p:cNvSpPr/>
          <p:nvPr/>
        </p:nvSpPr>
        <p:spPr>
          <a:xfrm flipH="1">
            <a:off x="2819160" y="5867280"/>
            <a:ext cx="5331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2819520" y="2438280"/>
            <a:ext cx="5331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2819520" y="2437920"/>
            <a:ext cx="0" cy="34290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819520" y="4114800"/>
            <a:ext cx="5331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5943600" y="19051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380880" y="3429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Planeación y Program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743040" y="5283360"/>
            <a:ext cx="162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Desarroll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y Contro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Line 24"/>
          <p:cNvSpPr/>
          <p:nvPr/>
        </p:nvSpPr>
        <p:spPr>
          <a:xfrm>
            <a:off x="914400" y="510552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Line 25"/>
          <p:cNvSpPr/>
          <p:nvPr/>
        </p:nvSpPr>
        <p:spPr>
          <a:xfrm>
            <a:off x="838080" y="6324480"/>
            <a:ext cx="12193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Line 26"/>
          <p:cNvSpPr/>
          <p:nvPr/>
        </p:nvSpPr>
        <p:spPr>
          <a:xfrm>
            <a:off x="914400" y="2133720"/>
            <a:ext cx="10666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Line 27"/>
          <p:cNvSpPr/>
          <p:nvPr/>
        </p:nvSpPr>
        <p:spPr>
          <a:xfrm flipV="1">
            <a:off x="1523880" y="51055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1523880" y="60199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Line 29"/>
          <p:cNvSpPr/>
          <p:nvPr/>
        </p:nvSpPr>
        <p:spPr>
          <a:xfrm flipV="1">
            <a:off x="1523880" y="2133720"/>
            <a:ext cx="0" cy="129528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Line 30"/>
          <p:cNvSpPr/>
          <p:nvPr/>
        </p:nvSpPr>
        <p:spPr>
          <a:xfrm>
            <a:off x="1523880" y="4267080"/>
            <a:ext cx="0" cy="76212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1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69184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VALORES AGREGAD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3" name="Picture 3" descr="IDEA"/>
          <p:cNvPicPr/>
          <p:nvPr/>
        </p:nvPicPr>
        <p:blipFill>
          <a:blip r:embed="rId1"/>
          <a:stretch/>
        </p:blipFill>
        <p:spPr>
          <a:xfrm>
            <a:off x="1752480" y="2666880"/>
            <a:ext cx="1295640" cy="3935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3419640" y="2590920"/>
            <a:ext cx="5724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Qué me gusta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Qué quiero hacer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En qué quiero destacarme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Qué fortalezas tengo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Qué recursos tengo disponibles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Cuál es la disciplina profesional preferida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Lo desarrollo </a:t>
            </a:r>
            <a:r>
              <a:rPr b="1" i="1" lang="es-ES_tradnl" sz="2000" spc="-1" strike="noStrike">
                <a:solidFill>
                  <a:srgbClr val="545472"/>
                </a:solidFill>
                <a:latin typeface="Times New Roman"/>
              </a:rPr>
              <a:t>sólo</a:t>
            </a: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 o </a:t>
            </a:r>
            <a:r>
              <a:rPr b="1" i="1" lang="es-ES_tradnl" sz="2000" spc="-1" strike="noStrike">
                <a:solidFill>
                  <a:srgbClr val="545472"/>
                </a:solidFill>
                <a:latin typeface="Times New Roman"/>
              </a:rPr>
              <a:t>en compañía</a:t>
            </a: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? (Con quién?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14400" y="106668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Es una valiosa oportunidad para profundizar en los temas y aspectos de formación profesion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Es la carta de presentación para ingresar al mundo laboral y profesion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6" name="Imagen 1" descr=""/>
          <p:cNvPicPr/>
          <p:nvPr/>
        </p:nvPicPr>
        <p:blipFill>
          <a:blip r:embed="rId2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MANERAS DE REALIZAR UN PROYEC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6516720" y="1989000"/>
            <a:ext cx="2133720" cy="20574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ALIZAR U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XCELENT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611280" y="1989000"/>
            <a:ext cx="2133360" cy="2057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EALIZ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U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EGUL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ROYECT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3348000" y="2060640"/>
            <a:ext cx="2286000" cy="2057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ALIZAR</a:t>
            </a: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TISFACTORI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286680" y="4143240"/>
            <a:ext cx="2643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31a03"/>
                </a:solidFill>
                <a:latin typeface="Times New Roman"/>
              </a:rPr>
              <a:t>DESTACARS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Innovar en   la indust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Calidad en la Investigación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Aportes profesionales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Valor agregado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71680" y="4143240"/>
            <a:ext cx="26031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Times New Roman"/>
              </a:rPr>
              <a:t>APROBAR  S Y T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Asistir a clase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Traer tem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Sustentar anteproyect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Cumplir con fech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3214800" y="4143240"/>
            <a:ext cx="30002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31a03"/>
                </a:solidFill>
                <a:latin typeface="Times New Roman"/>
              </a:rPr>
              <a:t>APROVECHAR OPORTUNIDAD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Investigar y profundizar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Participar en los taller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Aplicar los conocimientos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Consultar con los orientador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4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0066"/>
                </a:solidFill>
                <a:latin typeface="Tahoma"/>
              </a:rPr>
              <a:t>LA CONCEPCION Y DEFINICION DE  LOS TEM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Se concibe la idea  y se hace una evaluación preliminar de su factibilidad  partiendo de problemas, investigaciones,  soluciones técnicas y oportunidades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Es novedoso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Es útil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Responde a una necesidad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Existen recursos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Es retador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A quienes interesaría? ¿Puedo obtener soporte técnico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Es pertinente, actual e innovador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¿Cuál es el área  académica en que se desarrollará la investigación?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7" name="Imagen 1" descr=""/>
          <p:cNvPicPr/>
          <p:nvPr/>
        </p:nvPicPr>
        <p:blipFill>
          <a:blip r:embed="rId10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3T03:58:31Z</dcterms:created>
  <dc:creator>Julio César Fuentes Arismendi</dc:creator>
  <dc:description>Presentación motivacional a los estudiantes del 8o. semestre el 11 Nov. 2005</dc:description>
  <dc:language>en-US</dc:language>
  <cp:lastModifiedBy>Usuario</cp:lastModifiedBy>
  <dcterms:modified xsi:type="dcterms:W3CDTF">2018-01-22T19:23:48Z</dcterms:modified>
  <cp:revision>77</cp:revision>
  <dc:subject/>
  <dc:title>EL ANTEPROYECTO DE GRADO</dc:title>
</cp:coreProperties>
</file>